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69F-5D31-425C-8F21-1F753EA5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585-62DB-4EE6-8A27-3C9A7563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5B0-7FFA-4ADA-BE41-37B040EF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7A3-660C-4343-B0F8-3ABEAB7A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951-FADA-4600-8D23-72438A99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E8D-6063-4ECE-A117-D7FACF3F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162-2B9B-4D70-9202-10DBEAD4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C1E-A76E-4939-8A0B-168A09F3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F9B-EC7F-4CDB-8AF4-61E9F78B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7C2-E369-44DD-A4C5-28A0C049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F71-0A1D-4663-BCB6-C0A01F23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255-68CF-409B-B935-79BCA2FB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6666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1D81-D7AA-4F63-9103-9905088BE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44956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Bernard MT Condensed"/>
              </a:rPr>
              <a:t>Memorizing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ernard MT Condensed"/>
              </a:rPr>
              <a:t>the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ernard MT Condensed"/>
              </a:rPr>
              <a:t> Amendments: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Brush Script MT"/>
              </a:rPr>
              <a:t>Made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71440" y="601992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Monotype Corsiva"/>
              </a:rPr>
              <a:t>Grouped by: Britany Sterg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Pj04224110000[1]"/>
          <p:cNvPicPr/>
          <p:nvPr/>
        </p:nvPicPr>
        <p:blipFill>
          <a:blip r:embed="rId1"/>
          <a:stretch/>
        </p:blipFill>
        <p:spPr>
          <a:xfrm>
            <a:off x="5181480" y="457200"/>
            <a:ext cx="3303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Taxing and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ments: 16, 18, 21,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6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Income 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ts Congress the power to collect taxes on inc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collected does not have to be reapportioned to states based on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8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Prohib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le, manufacturing, transportation, or importation of alcohol is il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1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Repeal of Prohib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8th amendment (prohibition) is repea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ohol is again 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24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olition of Poll Tax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 taxes are illegal in federal elections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Calligraphy"/>
              </a:rPr>
              <a:t>Con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dments: 17,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7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rect Election of Sena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ators are to be elected by the people (state will fill vaca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7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gressional Pay Rai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essional pay raises do not take effect until after the next Congressional 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Documents and Settings\crihfields\Local Settings\Temporary Internet Files\Content.IE5\HBUZS8RH\MPj04010990000[1].jpg"/>
          <p:cNvPicPr/>
          <p:nvPr/>
        </p:nvPicPr>
        <p:blipFill>
          <a:blip r:embed="rId1"/>
          <a:stretch/>
        </p:blipFill>
        <p:spPr>
          <a:xfrm>
            <a:off x="4495680" y="38862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620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States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: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11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te Immun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the ability of a person to sue a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a person to sue if a state denies their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ee #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Documents and Settings\crihfields\Local Settings\Temporary Internet Files\Content.IE5\BPBG0B14\MPj04006220000[1].jpg"/>
          <p:cNvPicPr/>
          <p:nvPr/>
        </p:nvPicPr>
        <p:blipFill>
          <a:blip r:embed="rId1"/>
          <a:stretch/>
        </p:blipFill>
        <p:spPr>
          <a:xfrm rot="336000">
            <a:off x="5292360" y="3833280"/>
            <a:ext cx="347832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hiller"/>
              </a:rPr>
              <a:t>S L A V E R 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ndment: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3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bolition of Slave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 is illeg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emember the 13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,14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amendments de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with the freed African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:\Documents and Settings\crihfields\Local Settings\Temporary Internet Files\Content.IE5\BPBG0B14\MCIN00597_0000[1].wmf"/>
          <p:cNvPicPr/>
          <p:nvPr/>
        </p:nvPicPr>
        <p:blipFill>
          <a:blip r:embed="rId1"/>
          <a:stretch/>
        </p:blipFill>
        <p:spPr>
          <a:xfrm rot="20613600">
            <a:off x="4044600" y="3104640"/>
            <a:ext cx="45813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Impact"/>
              </a:rPr>
              <a:t>Personal Lib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ments: 1, 2, 9, 10,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eedom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religion, press, speech, assembly, and petition, no establishment of an official religion or prohibiting free exercise of (separation of church and sta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m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ght to keep and bear 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9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umerated right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uarantee that rights not enumerated (listed) in the Constitution are still protected and retained by th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0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erved right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uarantee that the people and the states have all of the powers not specifically delegated the federal government (reserved pow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4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qual Protection under law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s that all citizens are guaranteed equal treatment and protection under the law (due process) / no state can deny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s former Confederates from holding off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s Confederate debt null and vo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Pj04007500000[1]"/>
          <p:cNvPicPr/>
          <p:nvPr/>
        </p:nvPicPr>
        <p:blipFill>
          <a:blip r:embed="rId1"/>
          <a:stretch/>
        </p:blipFill>
        <p:spPr>
          <a:xfrm rot="823200">
            <a:off x="6705360" y="380880"/>
            <a:ext cx="20271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pperplate Gothic Bold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ght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pperplate Gothic Bold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pperplate Gothic Bold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cu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ndments: 5,6,7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.O.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sed must be indicted by a Grand 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tried for the same crime twice (double jeopar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forced to testify against your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a fair trial with all proper legal rights enforced (due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fair compensation ($$) when the Gov't takes your property for public us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eminent dom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re R.O.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be informed of the charges against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a trial where committed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a speedy and public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an impartial 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face witnesses against you in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counsel (a law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o call witnesses in your def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238180000[1]"/>
          <p:cNvPicPr/>
          <p:nvPr/>
        </p:nvPicPr>
        <p:blipFill>
          <a:blip r:embed="rId1"/>
          <a:stretch/>
        </p:blipFill>
        <p:spPr>
          <a:xfrm>
            <a:off x="6781680" y="4827600"/>
            <a:ext cx="193068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Rights of Accused continu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7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ghts in civil ca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to a trial by jury in a civil case (non-criminal cas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xceeds twenty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8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uel and unusual punish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protection against cruel and unusual punish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protection against                 ails and excessive fines and ba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MCj02876260000[1]"/>
          <p:cNvPicPr/>
          <p:nvPr/>
        </p:nvPicPr>
        <p:blipFill>
          <a:blip r:embed="rId1"/>
          <a:stretch/>
        </p:blipFill>
        <p:spPr>
          <a:xfrm>
            <a:off x="5638680" y="4427640"/>
            <a:ext cx="307836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ency FB"/>
              </a:rPr>
              <a:t>Pol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ments: 3, 4, *see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3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arter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o protection from troops being quartered in homes during peace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4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arch &amp; Seiz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ainst unreasonable search and seizure (persons, houses,&amp; pap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rants require probable cause and must be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Cj04338970000[1]"/>
          <p:cNvPicPr/>
          <p:nvPr/>
        </p:nvPicPr>
        <p:blipFill>
          <a:blip r:embed="rId1"/>
          <a:stretch/>
        </p:blipFill>
        <p:spPr>
          <a:xfrm>
            <a:off x="6629400" y="45720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MCj04338290000[1]"/>
          <p:cNvPicPr/>
          <p:nvPr/>
        </p:nvPicPr>
        <p:blipFill>
          <a:blip r:embed="rId2"/>
          <a:stretch/>
        </p:blipFill>
        <p:spPr>
          <a:xfrm rot="17141400">
            <a:off x="0" y="4495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V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ments: 15, 17, 19, 23, *24,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5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ght to V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sures black males the right to v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7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rect Election of Sen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enators are to be elected by the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19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men’s Suffr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omen are granted the right to vo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3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ting in D.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rants Washington D.C. 3 electors to the electoral colle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4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olition of Poll Tax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in taxing/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 taxes are illegal in federal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6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ting 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ge of eligibility for voting is lowered to 18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Cj02908130000[1]"/>
          <p:cNvPicPr/>
          <p:nvPr/>
        </p:nvPicPr>
        <p:blipFill>
          <a:blip r:embed="rId1"/>
          <a:stretch/>
        </p:blipFill>
        <p:spPr>
          <a:xfrm>
            <a:off x="6705720" y="228600"/>
            <a:ext cx="22096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lonna MT"/>
              </a:rPr>
              <a:t>Presidential/Executive Righ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dments: 12, 20, 22,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12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ction of President and V.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ors to the Electoral College are to cast one vote for President and separate vote for Vice Presi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use elects the President if no candidate gets an electoral majority (each state w/ 1 vo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nate elects the Vice President of no candidate gets an electoral majo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and VP run on a ti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MCj02311360000[1]"/>
          <p:cNvPicPr/>
          <p:nvPr/>
        </p:nvPicPr>
        <p:blipFill>
          <a:blip r:embed="rId1"/>
          <a:stretch/>
        </p:blipFill>
        <p:spPr>
          <a:xfrm rot="438600">
            <a:off x="6324480" y="4800600"/>
            <a:ext cx="2395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lonna MT"/>
              </a:rPr>
              <a:t>Continued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20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me Duck and Presidential Inaugu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takes office if Pres. or VP isn’t qualified or 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 and Vice President are sworn into office on Jan. 20th (moved from March 4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 once a year Jan. 3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22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idential Term Lim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son may serve as President more than twice - [but don’t forget vices can serve 2 years of the president’s term they succeeded, while still running twic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5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sidential Succ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s a clearer succession to the presidency and vice presid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ial Right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5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sidential Disability &amp; Vacancies  / Succ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a Pres. 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a Pres. Cannot perform their duties / notifies Congress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the VP and the Cabinet or Congress say he is still “unable to perform” The Congress decides in 48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vacancy in VP Pres. Nominates one and Congress approves (maj. v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stablishes a clearer succession to the presidency and vice presid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8:55:41Z</dcterms:created>
  <dc:creator>history</dc:creator>
  <dc:description/>
  <dc:language>en-US</dc:language>
  <cp:lastModifiedBy>tmoore</cp:lastModifiedBy>
  <dcterms:modified xsi:type="dcterms:W3CDTF">2012-01-18T16:01:57Z</dcterms:modified>
  <cp:revision>32</cp:revision>
  <dc:subject/>
  <dc:title>Memorizing Amendments: Made Easy</dc:title>
</cp:coreProperties>
</file>